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4A7-F6A8-4CD9-BEC0-7E5B80D1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07C-AFB3-4CDF-8B10-49A868B4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798-2FBB-4E33-843D-BC2897FD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12F-1A46-4D90-8D98-8ED4D44E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27E4-9884-4D55-AA4B-10386649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C319-DE1D-4F6A-A313-FDCDBDB6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CF7E-9B55-4650-9708-80E7E90B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075C-978D-4319-AB25-C4F33214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4F84-945B-4F42-B66F-A1A6384F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85CE-801B-4189-AF56-437391D7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9F2E-8FF8-4FBF-9A1C-7ABF63F7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8EE7-DAA2-4276-B314-195CBD7D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4B68-9428-4F37-91D0-5B99BDC0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D742-D958-4CD1-87C0-070479ED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3373-3D49-4D6F-BEBE-3BECF332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AFDC-C191-4FEB-8C25-BB6812A7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1DD5-5E6E-4309-A3CE-9E94A374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D6E5-8C15-4959-8C1A-819D3699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B0C1-11AB-482D-A552-3236F5BD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696-C24E-4575-ADB0-3C135861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A27-BD49-4E51-BB57-61DA3C9B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A6E-12B3-4B65-BC70-52D61E45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957F-1C0C-45EC-8F04-43B2F1AD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C1B-6E5B-41B1-908C-7E2662F4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A79F-B08A-4554-990C-5B140035BA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D855-2097-4617-8BA8-F624BA25BE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Assess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 2 Prescribed Su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acemaking and peacekeeping - international relations, 1918-19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rab Israeli conflict, 1945-197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m in Crisis, 1976-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cribed Subjec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s of the participants and peacemakers: Wilson and the Fourteen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of the tre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f the treaties in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rcement, US isolationism, con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gue of 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hr Cr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ion a &amp; threats to Peace - Manchuria &amp; Abyssi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cribed Subjec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years of British mandate, UNSCOP, partition, civil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tish withdrawal, establishment of Israel, ‘48-’49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graphic shifts, economic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ez cr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abism &amp; Zionism, emergence of 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Day War and October 1973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e of USA, USSR,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 David &amp; Egyptian Israeli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cribed Subject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Mao struggle for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a under Deng Xiaoping - economic policies, 4 moder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a under Deng Xiaoping - political changes up  to Tiananmen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estic and Foreign problems in the Brezhnev 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rbachev aims/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ces of Gorbachev in eastern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H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L 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 4 questions on 1 of 3 Prescribed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 out of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importance (S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derstanding (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and contr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source S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sources 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sources OPV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sources and Contextual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the worst done of the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less points dro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 is worth 3 points - write 3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ill be more background info given for the visual/cartoon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ly the best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approach is the b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urage bullet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and contrast with good lin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link the two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VL point-form is 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note that it being a translation is a limi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note that it being an excerpt is a lim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y away from “primary” &amp; “secondar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source” is often noted as a limitation -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in terms of “What can the source tell me and what can’t the source tell me?” for strengths and lim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when relevant background of wr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knowledge &amp; sources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waste time writing an introduction and conclusion - thesis is g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e everything back to the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your point of view (thesis) and stick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quote at length, but reference the do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how origin impacts truthful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y away from mere paraphrasing repetition or summary of docs . .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interpretation &amp;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t time roughly based on point val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historical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importance of historical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historical sources a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 an understanding of historical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and synthesize sources from both historical sources and and background knowled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02400" y="94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5:41:37Z</dcterms:created>
  <dc:creator>David Smith User</dc:creator>
  <dc:description/>
  <dc:language>en-US</dc:language>
  <cp:lastModifiedBy>LTCHS</cp:lastModifiedBy>
  <dcterms:modified xsi:type="dcterms:W3CDTF">2008-04-17T18:12:02Z</dcterms:modified>
  <cp:revision>29</cp:revision>
  <dc:subject/>
  <dc:title>External Assessment </dc:title>
</cp:coreProperties>
</file>